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310F-C833-466C-9E4F-964F2F365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gging for Beginners, Communicating with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be respectful of others and be creative with your wri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l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gging is your gateway to the world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g is short for the word “weblog.” A blog is an online journal.  It’s actually an online conversation, because after you post a blog entry, people can write comments about what you wrote.  In order to blog you need a blog host.  21 classes and edublogs are great ones to use for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people blog!  It’s a fun way for students to express what they are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teachers even blo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important to always think about your audience when you write.  When you write on paper, your audience is probably just your teacher and perhaps your classmates.  When you write on a blog, your audience could be anyone on the planet!  That’s a big aud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tips for getting started.  Every blog entry needs a title, and remember that titles always begin with capital letters.  Every time you write you need to think about your topic and purpose for writing.  Sometimes your teacher will give you a topic and sometimes you may get to choose your own topic.  Always use your best writ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BCCB-B0CF-43C3-928C-1761139A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A8A0-17C7-4D45-850D-3B4D639F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DCC-92DC-4079-BDAB-03AAD492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6D5-797F-4086-8AF8-D931B6B3B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36E5-8476-48C1-80FF-38E079C1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D63-F2F7-42BE-A333-8674A8AA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898-822B-45F5-9606-21458E17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4F6-58C9-4B17-B680-EC6F9795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0835-1B91-4097-8D2F-6C7B2D24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5CE7-F3CD-4ED0-B2A8-FC966FDD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CCE-D3C2-456C-AC1F-A73E7B90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80A-2710-4A82-B31D-7CFB5DDA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67C6-290B-42F2-AD20-18BFCBD0A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gging for Beginne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cating with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11480" y="5565600"/>
            <a:ext cx="50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rieda Foxwo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chnology Integration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xington Distric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Important Things to 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06668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ways use your best writing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oofread and edit your work.  Check for capital letters, punctuation, and clear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you write can be read by anyone.  Don’t write anything you wouldn’t w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grandmother to re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nly use words that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ppropriate for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411480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More Thing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5812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ver give out any personal information on your blog or in comments.  That means don’t tell your address, your phone number, your school, or your last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e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d re-read before you click Publis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1027080"/>
            <a:ext cx="556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ways be respectful of others with everything you wr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Be creative in your thinking and elaborate on your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3251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" y="100080"/>
            <a:ext cx="4971960" cy="6629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91320" y="1523880"/>
            <a:ext cx="2895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Blogg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is y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gatew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to t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worl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at is a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1371600"/>
            <a:ext cx="7467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G is short for the word “weblo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log is an online journal.  It’s like a di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currently over 70 million blo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the Internet.  Some people have more than 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2714760" cy="762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14400" y="5715000"/>
            <a:ext cx="3124080" cy="609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76920" y="5562720"/>
            <a:ext cx="3295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Students Blo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1319040"/>
            <a:ext cx="80010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Teachers Blo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8487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o is your audience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when you b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22096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ce a blog entry is publish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completely publ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590560" cy="2590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33280" y="3341520"/>
            <a:ext cx="5375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means that when you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g writing, your audi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the entire wor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g writing is real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a real audi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How do you write a blog e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5840" y="990720"/>
            <a:ext cx="8174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ry blog entry needs a tit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s always begin with capital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nk about your topic and purpose for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your best writing when you are wri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your blog.  That means wri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sentences that begin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ital letters and end with peri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ways READ and RE-READ what you wr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 you click Publ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781680" y="35053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What do you write about on a blo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2920" y="4267080"/>
            <a:ext cx="864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hing you’ve learned in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book you’ve been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ersonal narrative of an experience in your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opic you’ve resear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opinion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4120" y="2590920"/>
            <a:ext cx="37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re are some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24280" y="1676520"/>
            <a:ext cx="3530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Why blog instead of just writing in a note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44792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on a blog is like starting a conversation.  When you post a blog entry you are inviting others to write comments about what you said in your blo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gging allows you to share your ideas and get feedback from oth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logging is an online text conversation that you can have with anyone in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’s more FU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You might receive a comment from the person next to you or from someone as far away as Shangha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3627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0:08:29Z</dcterms:created>
  <dc:creator> LCSD1</dc:creator>
  <dc:description/>
  <dc:language>en-US</dc:language>
  <cp:lastModifiedBy> LCSD1</cp:lastModifiedBy>
  <dcterms:modified xsi:type="dcterms:W3CDTF">2008-06-24T01:28:28Z</dcterms:modified>
  <cp:revision>8</cp:revision>
  <dc:subject/>
  <dc:title>Blogging for Beginners:</dc:title>
</cp:coreProperties>
</file>